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AB7A-8961-4841-8E7B-303EF7BA1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8C65-16E2-4012-9E63-C1FF5611086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FA9B-D0EE-4C42-99F0-AA3391E2FE0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BBD7-5563-4362-8A28-CD86ECC80A5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5F08-6160-48A8-A30F-8DE20B1B9ED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39AF-9CD0-4A79-A8F7-38968F65568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0804-123A-4832-939B-9573E2BFB19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0EBD-8C9D-4446-939D-C741EFEF2EA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7F4E-2A35-4756-B7DF-3B0CBC54131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E6FA-2956-4571-B698-4B14668F761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C6D0-E0E0-4951-A838-7EAD010F38A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26B1-8A74-4F8D-9F26-7B26FFDE6E3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09C9-5678-46BE-AB9C-49DCD9ED1FB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6423-11DA-443A-972E-7C7882444FB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A461-787C-4275-9A7C-0FAB43B5C11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F94D-B370-4280-B7A4-A29F7AFFA2F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A0E9-3BD0-4197-A6B7-8B3694C75DF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56E1-E7D1-473A-BD17-B842A0BF8C9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E347-B38C-436D-A108-043DFB41D16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9FE1-0DC8-44F2-A380-C45C80DAEBD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844C-1002-45A5-AA37-59D51A7AD4E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B25B-CDD0-40BC-AC83-4B9B704BE13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539B-51AE-40DD-A178-CB1729DC596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3267-1601-4739-8ACD-0C9C089ADCD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ECCC-4602-4A78-97E0-E39D879FBAE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7ADD-5110-4FAA-9CD6-C20301CADF4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068C-4B31-4D4B-8F8A-8B8080A2A08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7D1E-92DD-45AA-AE6F-0178B79DB79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D4493-204E-4384-88F5-19ADDB8F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72A6B-38EB-43DA-A6C7-F4321190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76E53-A14B-403F-B6E5-75D13092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03AD1-2D3E-41B9-8369-921C83AC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ECFBA-678D-4C8E-BE21-BAFB043C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F8811-AAD6-4278-BE31-76ED9EC1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983A7-5AFA-4B2B-AA63-1DD03B38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263DA-F1D8-4B85-A06C-F734501B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BCB9D-0511-44AB-BB81-7B57F236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ABB53-7C14-43E2-8A69-A2F5A88A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540F6-6324-47DD-B0CE-2FEA9A8E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0A712-610A-4C01-AB31-DBA7AA03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17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3244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6019920"/>
            <a:ext cx="1752840" cy="742320"/>
            <a:chOff x="152280" y="6019920"/>
            <a:chExt cx="1752840" cy="742320"/>
          </a:xfrm>
        </p:grpSpPr>
        <p:sp>
          <p:nvSpPr>
            <p:cNvPr id="6" name="Freeform 8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6400" y="6019920"/>
              <a:ext cx="43920" cy="55080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280" y="6731280"/>
              <a:ext cx="928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54440" y="6734880"/>
              <a:ext cx="8784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920" y="624888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21560" y="62920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4864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76080" y="6292080"/>
              <a:ext cx="78120" cy="11736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4200" y="629208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863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060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1067760" y="6248880"/>
              <a:ext cx="38880" cy="16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1070280" y="6251760"/>
              <a:ext cx="3420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4497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1451880" y="6294960"/>
              <a:ext cx="342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1451880" y="6251760"/>
              <a:ext cx="3420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1821960" y="631692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392040" y="650880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73120" y="644076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676080" y="64778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3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930600" y="644076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1219680" y="650880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1312560" y="6440760"/>
              <a:ext cx="3888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1315080" y="6443640"/>
              <a:ext cx="34200" cy="1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1395720" y="650880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1523160" y="650880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4" name="Rectangle 66"/>
          <p:cNvSpPr/>
          <p:nvPr/>
        </p:nvSpPr>
        <p:spPr>
          <a:xfrm>
            <a:off x="7034400" y="632448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eptember, 2004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Picture 6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8" descr="cis2 final"/>
          <p:cNvPicPr/>
          <p:nvPr/>
        </p:nvPicPr>
        <p:blipFill>
          <a:blip r:embed="rId3"/>
          <a:stretch/>
        </p:blipFill>
        <p:spPr>
          <a:xfrm>
            <a:off x="6858000" y="152280"/>
            <a:ext cx="20034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E8FC-8747-4F1B-838A-25A4BA31B49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IS/2 - IFC Harmonization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920" y="3048120"/>
            <a:ext cx="60958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merican Institute of Steel Constr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ational Institute of Standards and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orgia Institute of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5" descr="D:\analysis2.EMF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38811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840600" y="548640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reactions and revisions are merged - DM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19320" y="5257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l the structural engr. always develop a separate structur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5" descr="D:\analysis3.EMF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3467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3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9528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95280" y="1905120"/>
            <a:ext cx="6629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s set of exchanges address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chitectural coordination with structural engine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ructural engineer deriving the basic layou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eel fabricator in a design-build business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1600200"/>
            <a:ext cx="66294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Analysis Applications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M, STRUDL, ROBOT, SAP/ETABS, STAAD/Pro, RIS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, Frameworks+,3D+,R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226" name="Rectangle 5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819520" y="3733920"/>
            <a:ext cx="20574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3" descr="D:\manufacturing1.EMF"/>
          <p:cNvPicPr/>
          <p:nvPr/>
        </p:nvPicPr>
        <p:blipFill>
          <a:blip r:embed="rId1"/>
          <a:stretch/>
        </p:blipFill>
        <p:spPr>
          <a:xfrm>
            <a:off x="762120" y="167328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143000" y="990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1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838080" y="57150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tinguish change from detail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657600" y="3809880"/>
            <a:ext cx="198108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3" descr="D:\manufacturing2.EMF"/>
          <p:cNvPicPr/>
          <p:nvPr/>
        </p:nvPicPr>
        <p:blipFill>
          <a:blip r:embed="rId1"/>
          <a:stretch/>
        </p:blipFill>
        <p:spPr>
          <a:xfrm>
            <a:off x="990720" y="1908000"/>
            <a:ext cx="7238880" cy="3905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2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362320" y="3962520"/>
            <a:ext cx="167616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1" name="Picture 3" descr="D:\manufacturing3EMF.EMF"/>
          <p:cNvPicPr/>
          <p:nvPr/>
        </p:nvPicPr>
        <p:blipFill>
          <a:blip r:embed="rId1"/>
          <a:stretch/>
        </p:blipFill>
        <p:spPr>
          <a:xfrm>
            <a:off x="609480" y="2043000"/>
            <a:ext cx="7696440" cy="3848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3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295280" y="22096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Fundamental Pass-off to the Fabricato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971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to fabricator is straightforw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47920" y="3657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ing back updates is hard: pass back everything and let design application sel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43000" y="228600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3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255" name="Rectangle 5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57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0" name="Picture 3" descr="D:\Coordination1.EMF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3826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90720" y="2209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back everyth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66680" y="2895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ing conflicts requires DMC &amp; incremental updat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19320" y="4114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66680" y="396252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4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272" name="Rectangle 5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8" name="Picture 4" descr="D:\statreport1.EMF"/>
          <p:cNvPicPr/>
          <p:nvPr/>
        </p:nvPicPr>
        <p:blipFill>
          <a:blip r:embed="rId1"/>
          <a:stretch/>
        </p:blipFill>
        <p:spPr>
          <a:xfrm>
            <a:off x="304920" y="2514600"/>
            <a:ext cx="8315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14400" y="22096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ne else can do th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ires DMC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219320" y="4876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ll also be packaged as .dll and made freely available to application develop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523880" y="685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981080" y="22860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Mechan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533520" y="1676520"/>
            <a:ext cx="8001000" cy="3031920"/>
            <a:chOff x="533520" y="1676520"/>
            <a:chExt cx="8001000" cy="3031920"/>
          </a:xfrm>
        </p:grpSpPr>
        <p:pic>
          <p:nvPicPr>
            <p:cNvPr id="287" name="Picture 3" descr="D:\translatormech.EMF"/>
            <p:cNvPicPr/>
            <p:nvPr/>
          </p:nvPicPr>
          <p:blipFill>
            <a:blip r:embed="rId1"/>
            <a:stretch/>
          </p:blipFill>
          <p:spPr>
            <a:xfrm>
              <a:off x="533520" y="1676520"/>
              <a:ext cx="8001000" cy="30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7"/>
            <p:cNvSpPr/>
            <p:nvPr/>
          </p:nvSpPr>
          <p:spPr>
            <a:xfrm>
              <a:off x="245268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579132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62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8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170" name="Rectangle 8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2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0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178" name="Rectangle 11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0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3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186" name="Rectangle 14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8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838080" y="19051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xamine in detail and assess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99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1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alysis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838080" y="5181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chitectural information needed to define load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6" name="Picture 9" descr="D:\analysis1.EMF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0020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mental update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8:20:16Z</dcterms:created>
  <dc:creator>Chuck</dc:creator>
  <dc:description/>
  <dc:language>en-US</dc:language>
  <cp:lastModifiedBy>Robert Lipman</cp:lastModifiedBy>
  <dcterms:modified xsi:type="dcterms:W3CDTF">2012-02-17T21:50:04Z</dcterms:modified>
  <cp:revision>17</cp:revision>
  <dc:subject/>
  <dc:title>PowerPoint Presentation</dc:title>
</cp:coreProperties>
</file>